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402-BF8C-42C6-8FAA-3228C992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EF3-BE31-4395-A316-9F037DE6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307-25C9-4D88-84E0-D3B3EF0C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F53-4E99-4B41-A81D-596046AC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16C-2AE5-4E85-9983-D599A241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2D1-8904-468A-B308-DD5FC21C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2DA-5F3C-41FA-83AE-0F588E4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812-DF11-4CB0-8A54-E7B6E8E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262-DAB3-4C5A-BDAF-98239931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24C-CBE5-4442-A5D8-DDF9D6B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C03-53D9-4CF8-BC4C-207DA304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3AD-CC9C-44EA-A4B2-F0B1AD2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AE0-37AF-436F-9BBB-DE6CB80F45A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4508" t="10034" r="6983" b="30434"/>
          <a:stretch/>
        </p:blipFill>
        <p:spPr>
          <a:xfrm>
            <a:off x="395280" y="765000"/>
            <a:ext cx="8353440" cy="4535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77680" y="333360"/>
            <a:ext cx="461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귀사의 자주묻는 질문들 내용 중 제가 원하는 방식과 비슷한 내용이 있어서 문의드림니다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290240" y="404640"/>
            <a:ext cx="51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저는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500M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떨어진 야외에서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곳에 노트북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대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(TCP/IP)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방식으로 연결하고자 합니다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귀사의 첫 페이지의 구성도에서 이렇게 바꾸어도 가능 할까요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4" name="Picture 2" descr="삼성전자 노트북5 NT500R4P-LD1S 이미지"/>
          <p:cNvPicPr/>
          <p:nvPr/>
        </p:nvPicPr>
        <p:blipFill>
          <a:blip r:embed="rId1"/>
          <a:srcRect l="6286" t="15117" r="8037" b="19363"/>
          <a:stretch/>
        </p:blipFill>
        <p:spPr>
          <a:xfrm>
            <a:off x="179280" y="2276640"/>
            <a:ext cx="126864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삼성전자 노트북5 NT500R4P-LD1S 이미지"/>
          <p:cNvPicPr/>
          <p:nvPr/>
        </p:nvPicPr>
        <p:blipFill>
          <a:blip r:embed="rId2"/>
          <a:srcRect l="6286" t="15117" r="8037" b="19363"/>
          <a:stretch/>
        </p:blipFill>
        <p:spPr>
          <a:xfrm>
            <a:off x="7767720" y="2276640"/>
            <a:ext cx="1268280" cy="96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EZL-200F 주요특징"/>
          <p:cNvPicPr/>
          <p:nvPr/>
        </p:nvPicPr>
        <p:blipFill>
          <a:blip r:embed="rId3"/>
          <a:stretch/>
        </p:blipFill>
        <p:spPr>
          <a:xfrm>
            <a:off x="2268360" y="1989000"/>
            <a:ext cx="136692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ZL-200F 주요특징"/>
          <p:cNvPicPr/>
          <p:nvPr/>
        </p:nvPicPr>
        <p:blipFill>
          <a:blip r:embed="rId4"/>
          <a:stretch/>
        </p:blipFill>
        <p:spPr>
          <a:xfrm>
            <a:off x="5724360" y="2060640"/>
            <a:ext cx="1368720" cy="1231920"/>
          </a:xfrm>
          <a:prstGeom prst="rect">
            <a:avLst/>
          </a:prstGeom>
          <a:ln w="0">
            <a:noFill/>
          </a:ln>
        </p:spPr>
      </p:pic>
      <p:sp>
        <p:nvSpPr>
          <p:cNvPr id="48" name="왼쪽/오른쪽 화살표 8"/>
          <p:cNvSpPr/>
          <p:nvPr/>
        </p:nvSpPr>
        <p:spPr>
          <a:xfrm>
            <a:off x="1187280" y="2421000"/>
            <a:ext cx="1216080" cy="484200"/>
          </a:xfrm>
          <a:prstGeom prst="leftRightArrow">
            <a:avLst>
              <a:gd name="adj1" fmla="val 50000"/>
              <a:gd name="adj2" fmla="val 500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왼쪽/오른쪽 화살표 10"/>
          <p:cNvSpPr/>
          <p:nvPr/>
        </p:nvSpPr>
        <p:spPr>
          <a:xfrm>
            <a:off x="6875640" y="2421000"/>
            <a:ext cx="1217520" cy="484200"/>
          </a:xfrm>
          <a:prstGeom prst="leftRightArrow">
            <a:avLst>
              <a:gd name="adj1" fmla="val 50000"/>
              <a:gd name="adj2" fmla="val 501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왼쪽/오른쪽 화살표 11"/>
          <p:cNvSpPr/>
          <p:nvPr/>
        </p:nvSpPr>
        <p:spPr>
          <a:xfrm>
            <a:off x="3708360" y="2492280"/>
            <a:ext cx="2016000" cy="486000"/>
          </a:xfrm>
          <a:prstGeom prst="leftRightArrow">
            <a:avLst>
              <a:gd name="adj1" fmla="val 50000"/>
              <a:gd name="adj2" fmla="val 498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RS485/422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37320" y="3357720"/>
            <a:ext cx="1085760" cy="276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SERVER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노트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7878960" y="3357720"/>
            <a:ext cx="1032480" cy="276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CLIENT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노트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3" name="직선 화살표 연결선 16"/>
          <p:cNvCxnSpPr>
            <a:stCxn id="51" idx="3"/>
            <a:endCxn id="52" idx="1"/>
          </p:cNvCxnSpPr>
          <p:nvPr/>
        </p:nvCxnSpPr>
        <p:spPr>
          <a:xfrm>
            <a:off x="1509840" y="3495240"/>
            <a:ext cx="630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54" name="TextBox 18"/>
          <p:cNvSpPr/>
          <p:nvPr/>
        </p:nvSpPr>
        <p:spPr>
          <a:xfrm>
            <a:off x="4353840" y="31989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500M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319760" y="4149720"/>
            <a:ext cx="63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이렇게 구성하고 싶은데 가능할까요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SERVER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노트북에 있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MS-SQL DBMS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를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CLIENT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노트북에서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ODBC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로 연결하여 사용하는데 프로그램 변경 없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가능 할까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? 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별도를 통신 프로그램을 해야 하나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제가 기존에 비슷한 경우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ADSL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모뎀을 써서 했던 기억이 나서 귀사의 제품도 가능할까 하여 문의 드립니다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7T03:03:04Z</dcterms:created>
  <dc:creator>park</dc:creator>
  <dc:description/>
  <dc:language>en-US</dc:language>
  <cp:lastModifiedBy>park</cp:lastModifiedBy>
  <dcterms:modified xsi:type="dcterms:W3CDTF">2017-07-27T03:25:40Z</dcterms:modified>
  <cp:revision>6</cp:revision>
  <dc:subject/>
  <dc:title>슬라이드 1</dc:title>
</cp:coreProperties>
</file>